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49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8.jpeg" ContentType="image/jpeg"/>
  <Override PartName="/ppt/media/image25.jpeg" ContentType="image/jpeg"/>
  <Override PartName="/ppt/media/image24.jpeg" ContentType="image/jpeg"/>
  <Override PartName="/ppt/media/image21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6.jpeg" ContentType="image/jpeg"/>
  <Override PartName="/ppt/media/image26.png" ContentType="image/png"/>
  <Override PartName="/ppt/media/image17.jpeg" ContentType="image/jpeg"/>
  <Override PartName="/ppt/media/image3.png" ContentType="image/png"/>
  <Override PartName="/ppt/media/image27.png" ContentType="image/png"/>
  <Override PartName="/ppt/media/image33.jpeg" ContentType="image/jpeg"/>
  <Override PartName="/ppt/media/image4.png" ContentType="image/png"/>
  <Override PartName="/ppt/media/image29.jpeg" ContentType="image/jpeg"/>
  <Override PartName="/ppt/media/image8.jpeg" ContentType="image/jpeg"/>
  <Override PartName="/ppt/media/image39.jpeg" ContentType="image/jpeg"/>
  <Override PartName="/ppt/media/image23.png" ContentType="image/png"/>
  <Override PartName="/ppt/media/image37.jpeg" ContentType="image/jpeg"/>
  <Override PartName="/ppt/media/image43.jpeg" ContentType="image/jpeg"/>
  <Override PartName="/ppt/media/image35.gif" ContentType="image/gif"/>
  <Override PartName="/ppt/media/image38.jpeg" ContentType="image/jpeg"/>
  <Override PartName="/ppt/media/image44.jpeg" ContentType="image/jpeg"/>
  <Override PartName="/ppt/media/image45.png" ContentType="image/png"/>
  <Override PartName="/ppt/media/image6.jpeg" ContentType="image/jpeg"/>
  <Override PartName="/ppt/media/image46.jpeg" ContentType="image/jpeg"/>
  <Override PartName="/ppt/media/image47.jpeg" ContentType="image/jpeg"/>
  <Override PartName="/ppt/media/image31.jpeg" ContentType="image/jpeg"/>
  <Override PartName="/ppt/media/image41.png" ContentType="image/png"/>
  <Override PartName="/ppt/media/image48.jpeg" ContentType="image/jpeg"/>
  <Override PartName="/ppt/media/image32.jpeg" ContentType="image/jpeg"/>
  <Override PartName="/ppt/media/image5.jpeg" ContentType="image/jpeg"/>
  <Override PartName="/ppt/media/image49.jpeg" ContentType="image/jpeg"/>
  <Override PartName="/ppt/media/image12.png" ContentType="image/png"/>
  <Override PartName="/ppt/media/image20.jpeg" ContentType="image/jpeg"/>
  <Override PartName="/ppt/media/image30.jpeg" ContentType="image/jpeg"/>
  <Override PartName="/ppt/media/image42.jpeg" ContentType="image/jpeg"/>
  <Override PartName="/ppt/media/image19.jpeg" ContentType="image/jpeg"/>
  <Override PartName="/ppt/media/image9.jpeg" ContentType="image/jpeg"/>
  <Override PartName="/ppt/media/image11.png" ContentType="image/png"/>
  <Override PartName="/ppt/media/image34.jpeg" ContentType="image/jpeg"/>
  <Override PartName="/ppt/media/image7.png" ContentType="image/png"/>
  <Override PartName="/ppt/media/image22.jpeg" ContentType="image/jpeg"/>
  <Override PartName="/ppt/media/image10.png" ContentType="image/png"/>
  <Override PartName="/ppt/media/image1.jpeg" ContentType="image/jpeg"/>
  <Override PartName="/ppt/media/image40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27949-61E1-40A0-B822-3FA84BE476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0EAC8-5974-4826-A540-85758A74F9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BAB21-90AC-456C-85DD-3B6243DF9D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444E0-1624-4F03-BCF7-D2E77DCF44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F2EB1-F847-40F8-906B-7E662D61D6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35D42-E63F-4177-9F6D-037196328B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BA1E6-BFBE-455C-8524-45BE98D178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4C5A0-02F9-4F68-A7C9-242C2DD531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FCB7B-95C7-4543-8369-EF057F4CE8F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F4E6E-6B1F-4095-AF26-CB6DAC19E02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AD75D-F170-4859-B51F-7106AD28AA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D0955-DB56-4EF7-A963-E271A8D8CF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D2B3F-5E7E-4899-84EA-41B065EDDB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0B921-9A74-4361-B032-AACDE0B719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E5546-51F4-4945-AC0C-82147CAF0D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5DA1E-7E6A-436C-940A-271BC6E51B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7DCEB-1A81-4935-91EB-70E5328CB5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E5C0D-7892-41A8-A9DF-DEA8AA1E5B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8486D-FAC2-4F18-B415-1DD9F697D2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9042A-5337-437B-B1A8-8EBA78CBAB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38453-6C90-4881-B6A7-631182A271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2B4B6-CDF6-4014-A067-E3FC9769D0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33647-487F-411B-8E7B-D1727CD3EB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3F6B6-4F1F-4908-AA6D-C55EC76458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02101-4431-46E3-86E7-3C2E1EEB5F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6CB83-811D-43A6-AB13-485F4EA1FA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2A4B3-E06A-4ED9-904A-ED8A30441A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07A28-1B2D-4FBA-B9B3-310C27C4A2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BE745-E1B0-4689-969C-8FD064A5DF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8F5CF-9908-42C7-AB89-9D740805BB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7EF06-255E-4746-B2D4-D804F56903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74210-6250-437B-9176-9B3525FA7F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E971A-7367-4DD8-A27F-FDAB88C987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35859-B526-49B3-AB06-E426130BFD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EBF05-FB94-4326-B824-8CE1DA6186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D5EB9-4E40-44B6-BAC4-6973281B25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66D7C-1AD4-4AD3-AF63-FDB5717DC9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09B56-6AA0-4870-87A5-D89D54099A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260C8-8589-4592-8646-BB9C5976A3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E9EC4-8FFD-4C78-BBCA-F63E5B3C7F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CD740-CA0E-468A-86B9-D696D8FC4F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7EC10-3D3C-4EA3-A252-E0ED265A13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4A6E9-11F5-4A76-AABC-41ED856C67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A99EC-0DAD-4367-9ED8-E60061DFE790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4DD65-5468-4D73-9BF8-9A0F2984B0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8FEB4-1E90-40B2-9E5F-D3A9AD07C9A9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7516E-2C8E-4C88-A3FE-EDABA4C128DC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F2C59-AA21-4049-84A9-81D7D20F92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C8A47-54A3-4C69-B007-85EAF724B3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63E93-1E8E-493B-A619-CE4C791EF1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B05D8-77B0-4007-8563-6738CC02B0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12D66-5DB7-4177-91B6-A7A414E9AF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EC588-CEFF-4B28-AA12-9B06FE6F45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E481F-877C-4F63-A302-3AC8F6EC27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450CF-CFBA-4C2E-AA89-088E2C0B9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F30E1-AF8D-41B7-8750-C39D8B78D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6A9DB-2CB4-455F-A275-C2A76D5FF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5A288-DE7A-44B1-A79C-221A0106E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2DAE5-CC7F-4F65-A04F-15925A288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369DC-4E03-4363-BCD5-9C0758282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D4E09-0E63-4733-9265-EDB5A08AF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182B6-6924-4A81-8A42-DB38E3E42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37E62-F584-44FF-B818-F4025CE36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E3EB2-D172-4CE1-B37E-57A09BDAE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9073C-A065-4DDB-B912-71B85E29E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94804-92B2-4C6E-BA37-56201C955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33040-49D9-4FB9-B68A-60D3EA738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3BEAD-28D9-4F18-991A-2E746DC46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402D6-C236-42EE-A9FC-29C24114B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ED2A3-D92F-4379-8547-3E64BF88E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FDA3C-A8B3-4C2F-BDE5-EAF7BEF96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2E3F71F-0C70-40B1-BC42-896802E4D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5623FBA-338B-4EEF-B30D-2AAD2609E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2DB9628-61D1-48AF-8178-C9BDC5BFA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C0CAC3B-C38D-49F6-BE3B-15A5F57A2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B462432-AD31-4D19-A2C1-CBB9EA8BD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7C7F2-05E9-40DE-9E93-4AD44C09A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F901A87-46D9-46F9-A962-993E35C1E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B2445B-C119-495F-A0E1-2530B0FBC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958B5E6-CFEF-4B73-9C67-E4915B6DF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9E1000F-AC4E-4757-8AB9-44C20C853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9011D21-D91F-4AB7-B8CD-B4F8D7347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6D2BBF8-D7B1-46C4-82C8-C3D7D0590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6FF6947-0EF7-4D0F-A495-C186B03F1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2594A-6129-42DA-A4F0-5DE596C77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FF245-58C5-402F-98FB-EB3C57658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E8D8C-444F-4F34-9B77-9CE043049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716A2-3EFE-4A8F-AC9C-1FD8A3325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B84AE-D4AA-4436-97C5-E343839AD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66795-469C-4609-A475-5EFA3E6B7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4FEEB-9F25-4C2E-9A24-87C2225D67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868E3-A561-4F76-A491-B5BAFD1092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59286-86A9-40E1-8AEF-E47158B450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dt" idx="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celtx.com/" TargetMode="External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www.bbc.co.uk/wales/audiovideo/sites/about/pages/howto.shtml" TargetMode="External"/><Relationship Id="rId2" Type="http://schemas.openxmlformats.org/officeDocument/2006/relationships/hyperlink" Target="http://www.digi-tales.org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image" Target="../media/image40.jpe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6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alibri"/>
              </a:rPr>
              <a:t>Enhancing Writing &amp; Creativity through ICT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-360" y="6324480"/>
            <a:ext cx="388620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Karen.yager@det.nsw.edu.a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TextBox 3"/>
          <p:cNvSpPr/>
          <p:nvPr/>
        </p:nvSpPr>
        <p:spPr>
          <a:xfrm>
            <a:off x="228600" y="228600"/>
            <a:ext cx="2286000" cy="520560"/>
          </a:xfrm>
          <a:prstGeom prst="rect">
            <a:avLst/>
          </a:prstGeom>
          <a:solidFill>
            <a:srgbClr val="e6e0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magin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4"/>
          <p:cNvSpPr/>
          <p:nvPr/>
        </p:nvSpPr>
        <p:spPr>
          <a:xfrm>
            <a:off x="2895480" y="228600"/>
            <a:ext cx="1752840" cy="52056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a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5"/>
          <p:cNvSpPr/>
          <p:nvPr/>
        </p:nvSpPr>
        <p:spPr>
          <a:xfrm>
            <a:off x="5029200" y="228600"/>
            <a:ext cx="1371600" cy="520560"/>
          </a:xfrm>
          <a:prstGeom prst="rect">
            <a:avLst/>
          </a:prstGeom>
          <a:solidFill>
            <a:srgbClr val="dbee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6"/>
          <p:cNvSpPr/>
          <p:nvPr/>
        </p:nvSpPr>
        <p:spPr>
          <a:xfrm>
            <a:off x="6781680" y="228600"/>
            <a:ext cx="2133720" cy="520560"/>
          </a:xfrm>
          <a:prstGeom prst="rect">
            <a:avLst/>
          </a:prstGeom>
          <a:solidFill>
            <a:srgbClr val="fdead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nov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ight Arrow 7"/>
          <p:cNvSpPr/>
          <p:nvPr/>
        </p:nvSpPr>
        <p:spPr>
          <a:xfrm>
            <a:off x="2590920" y="380880"/>
            <a:ext cx="304560" cy="304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ight Arrow 8"/>
          <p:cNvSpPr/>
          <p:nvPr/>
        </p:nvSpPr>
        <p:spPr>
          <a:xfrm>
            <a:off x="4724280" y="380880"/>
            <a:ext cx="304920" cy="304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ight Arrow 9"/>
          <p:cNvSpPr/>
          <p:nvPr/>
        </p:nvSpPr>
        <p:spPr>
          <a:xfrm>
            <a:off x="6477120" y="380880"/>
            <a:ext cx="304560" cy="304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3" descr="det-nsr-logo.jpg"/>
          <p:cNvPicPr/>
          <p:nvPr/>
        </p:nvPicPr>
        <p:blipFill>
          <a:blip r:embed="rId2"/>
          <a:stretch/>
        </p:blipFill>
        <p:spPr>
          <a:xfrm>
            <a:off x="7238880" y="5840280"/>
            <a:ext cx="1600200" cy="101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0" name="Title 4"/>
          <p:cNvGrpSpPr/>
          <p:nvPr/>
        </p:nvGrpSpPr>
        <p:grpSpPr>
          <a:xfrm>
            <a:off x="158760" y="189000"/>
            <a:ext cx="3949560" cy="847800"/>
            <a:chOff x="158760" y="189000"/>
            <a:chExt cx="3949560" cy="847800"/>
          </a:xfrm>
        </p:grpSpPr>
        <p:pic>
          <p:nvPicPr>
            <p:cNvPr id="171" name="Title 4" descr=""/>
            <p:cNvPicPr/>
            <p:nvPr/>
          </p:nvPicPr>
          <p:blipFill>
            <a:blip r:embed="rId1"/>
            <a:stretch/>
          </p:blipFill>
          <p:spPr>
            <a:xfrm>
              <a:off x="158760" y="189000"/>
              <a:ext cx="3949560" cy="84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228600" y="349200"/>
              <a:ext cx="3809880" cy="65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500" spc="-1" strike="noStrike">
                  <a:solidFill>
                    <a:srgbClr val="ffffff"/>
                  </a:solidFill>
                  <a:latin typeface="Calibri"/>
                </a:rPr>
                <a:t>CREATIVITY</a:t>
              </a:r>
              <a:endParaRPr b="0" lang="en-US" sz="3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3" name="Content Placeholder 3" descr="Picture2.png"/>
          <p:cNvPicPr/>
          <p:nvPr/>
        </p:nvPicPr>
        <p:blipFill>
          <a:blip r:embed="rId2"/>
          <a:stretch/>
        </p:blipFill>
        <p:spPr>
          <a:xfrm>
            <a:off x="4267080" y="0"/>
            <a:ext cx="487692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304560" y="1143000"/>
            <a:ext cx="38098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FLUENCY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- generating many idea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FLEXIBILITY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- shifting perspective easil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ORIGINALITY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- conceiving something new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PURPOSE- Visio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AUDIENCE -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ontex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ELABORATION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- building on other idea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EVALUATION: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ritical reflec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Title 1"/>
          <p:cNvGrpSpPr/>
          <p:nvPr/>
        </p:nvGrpSpPr>
        <p:grpSpPr>
          <a:xfrm>
            <a:off x="219240" y="219240"/>
            <a:ext cx="4060800" cy="860400"/>
            <a:chOff x="219240" y="219240"/>
            <a:chExt cx="4060800" cy="860400"/>
          </a:xfrm>
        </p:grpSpPr>
        <p:pic>
          <p:nvPicPr>
            <p:cNvPr id="176" name="Title 1" descr=""/>
            <p:cNvPicPr/>
            <p:nvPr/>
          </p:nvPicPr>
          <p:blipFill>
            <a:blip r:embed="rId1"/>
            <a:stretch/>
          </p:blipFill>
          <p:spPr>
            <a:xfrm>
              <a:off x="219240" y="219240"/>
              <a:ext cx="4060800" cy="86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228600" y="228600"/>
              <a:ext cx="403848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Calibri"/>
                </a:rPr>
                <a:t>Creativity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8" name=""/>
          <p:cNvSpPr txBox="1"/>
          <p:nvPr/>
        </p:nvSpPr>
        <p:spPr>
          <a:xfrm>
            <a:off x="228600" y="1295280"/>
            <a:ext cx="4038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se questions or state learning goa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ach explicitly the skills and knowled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grate open-ended, authentic assess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courage risk-tak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techn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9" name="Picture 4" descr="1914296-2-imagine-creativity.jpg"/>
          <p:cNvPicPr/>
          <p:nvPr/>
        </p:nvPicPr>
        <p:blipFill>
          <a:blip r:embed="rId2"/>
          <a:stretch/>
        </p:blipFill>
        <p:spPr>
          <a:xfrm>
            <a:off x="4419720" y="0"/>
            <a:ext cx="4724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4572000" cy="1096920"/>
          </a:xfrm>
          <a:prstGeom prst="rect">
            <a:avLst/>
          </a:prstGeom>
          <a:solidFill>
            <a:srgbClr val="ddd9c3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Why ICT &amp; Writing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04920" y="1599840"/>
            <a:ext cx="44956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onfidence: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pelling and hand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Vocabulary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ynonyms, defini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Refinement: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Editing, spell check, peer marking, publish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reativity: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mages, sound, video clips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2" name="Picture 3" descr="penguin%20reflection%202.jpg"/>
          <p:cNvPicPr/>
          <p:nvPr/>
        </p:nvPicPr>
        <p:blipFill>
          <a:blip r:embed="rId1"/>
          <a:stretch/>
        </p:blipFill>
        <p:spPr>
          <a:xfrm>
            <a:off x="5067360" y="0"/>
            <a:ext cx="4076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alibri"/>
              </a:rPr>
              <a:t>Improving Writing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304920" y="1295280"/>
            <a:ext cx="861048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To improve the quality of student writing: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7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Explicitly and systematically teach the structure and language demands of the writing task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7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Focus on audience and purpose 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7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Explicitly teach the thinking processes involved in writing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7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Immerse students in examples of the required style of writing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7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Model and jointly construct texts 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Use guided and independent practice 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Employ peer and self reflection 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3962160" cy="762120"/>
          </a:xfrm>
          <a:prstGeom prst="rect">
            <a:avLst/>
          </a:prstGeom>
          <a:solidFill>
            <a:srgbClr val="e86e5a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alibri"/>
              </a:rPr>
              <a:t>Creativity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228600" y="1066320"/>
            <a:ext cx="41148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7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Start with concepts not texts: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7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Characterisation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7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Representation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7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Contextualisation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7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Narrative Voice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7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Craft or Artistry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7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Perception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7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Appropriation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7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Hybridity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7" name="Picture 3" descr="pck2017.jpg"/>
          <p:cNvPicPr/>
          <p:nvPr/>
        </p:nvPicPr>
        <p:blipFill>
          <a:blip r:embed="rId1"/>
          <a:stretch/>
        </p:blipFill>
        <p:spPr>
          <a:xfrm>
            <a:off x="4495680" y="0"/>
            <a:ext cx="4648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2"/>
          <p:cNvSpPr/>
          <p:nvPr/>
        </p:nvSpPr>
        <p:spPr>
          <a:xfrm>
            <a:off x="2940120" y="228600"/>
            <a:ext cx="3429000" cy="492120"/>
          </a:xfrm>
          <a:prstGeom prst="rect">
            <a:avLst/>
          </a:prstGeom>
          <a:solidFill>
            <a:srgbClr val="ebf1d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Foc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opic/Subject/Context/Outcom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3"/>
          <p:cNvSpPr/>
          <p:nvPr/>
        </p:nvSpPr>
        <p:spPr>
          <a:xfrm>
            <a:off x="2209680" y="949320"/>
            <a:ext cx="5257800" cy="498600"/>
          </a:xfrm>
          <a:prstGeom prst="rect">
            <a:avLst/>
          </a:prstGeom>
          <a:solidFill>
            <a:srgbClr val="c4b6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ncept + Key Question or Essential Learning Stat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verarching idea of the un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Calibri"/>
              </a:rPr>
              <a:t>(Deep knowledg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4"/>
          <p:cNvSpPr/>
          <p:nvPr/>
        </p:nvSpPr>
        <p:spPr>
          <a:xfrm>
            <a:off x="380880" y="1523880"/>
            <a:ext cx="2286000" cy="1025640"/>
          </a:xfrm>
          <a:prstGeom prst="rect">
            <a:avLst/>
          </a:prstGeom>
          <a:solidFill>
            <a:srgbClr val="dbee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Key Ideas + Ques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What students will learn by the end of the un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(Deep knowledg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5"/>
          <p:cNvSpPr/>
          <p:nvPr/>
        </p:nvSpPr>
        <p:spPr>
          <a:xfrm>
            <a:off x="3657600" y="1676520"/>
            <a:ext cx="2286000" cy="990360"/>
          </a:xfrm>
          <a:prstGeom prst="rect">
            <a:avLst/>
          </a:prstGeom>
          <a:solidFill>
            <a:srgbClr val="dbee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Key Ideas + Ques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eflect intent of the outcomes and conce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(Deep knowledg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6"/>
          <p:cNvSpPr/>
          <p:nvPr/>
        </p:nvSpPr>
        <p:spPr>
          <a:xfrm>
            <a:off x="6826320" y="1749600"/>
            <a:ext cx="2165400" cy="799920"/>
          </a:xfrm>
          <a:prstGeom prst="rect">
            <a:avLst/>
          </a:prstGeom>
          <a:solidFill>
            <a:srgbClr val="dbee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Key Ideas + Ques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(Deep knowledg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7"/>
          <p:cNvSpPr/>
          <p:nvPr/>
        </p:nvSpPr>
        <p:spPr>
          <a:xfrm>
            <a:off x="311040" y="2819520"/>
            <a:ext cx="8680680" cy="761760"/>
          </a:xfrm>
          <a:prstGeom prst="rect">
            <a:avLst/>
          </a:prstGeom>
          <a:solidFill>
            <a:srgbClr val="f2dcd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utcomes and Assess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(Deep understanding, Problematic knowledge, Higher-order thinking, Explicit quality criteri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emonstration of key learning ideas - Not too many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8"/>
          <p:cNvSpPr/>
          <p:nvPr/>
        </p:nvSpPr>
        <p:spPr>
          <a:xfrm>
            <a:off x="311040" y="3692520"/>
            <a:ext cx="8832960" cy="498600"/>
          </a:xfrm>
          <a:prstGeom prst="rect">
            <a:avLst/>
          </a:prstGeom>
          <a:solidFill>
            <a:srgbClr val="ddd9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re-testing/Pre-assessment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(Background knowledge - connections to prior learnin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rainstorming, Graphic organisers – KWL, mind mapping, Y chart, Lotus diagram. Qui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9"/>
          <p:cNvSpPr/>
          <p:nvPr/>
        </p:nvSpPr>
        <p:spPr>
          <a:xfrm>
            <a:off x="5568840" y="5521320"/>
            <a:ext cx="2286000" cy="87948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eaching Strate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earning Activ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caffolds / Models – annota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0"/>
          <p:cNvSpPr/>
          <p:nvPr/>
        </p:nvSpPr>
        <p:spPr>
          <a:xfrm>
            <a:off x="2254320" y="5521320"/>
            <a:ext cx="2286000" cy="87948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eaching Strate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earning Activ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nnected &amp; Scaffold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11"/>
          <p:cNvSpPr/>
          <p:nvPr/>
        </p:nvSpPr>
        <p:spPr>
          <a:xfrm>
            <a:off x="311040" y="4425840"/>
            <a:ext cx="1898640" cy="121284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eaching Strate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earning Activ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Explicit / Systemat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uilding the 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12"/>
          <p:cNvSpPr/>
          <p:nvPr/>
        </p:nvSpPr>
        <p:spPr>
          <a:xfrm>
            <a:off x="3740040" y="4413240"/>
            <a:ext cx="2286000" cy="99396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eaching Strate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earning Activ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Explicit Literacy &amp; Numeracy Strate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13"/>
          <p:cNvSpPr/>
          <p:nvPr/>
        </p:nvSpPr>
        <p:spPr>
          <a:xfrm>
            <a:off x="6781680" y="4419720"/>
            <a:ext cx="2057400" cy="96984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eaching Strate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earning Activ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ntegrated I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AutoShape 14"/>
          <p:cNvSpPr/>
          <p:nvPr/>
        </p:nvSpPr>
        <p:spPr>
          <a:xfrm>
            <a:off x="4654440" y="720720"/>
            <a:ext cx="222480" cy="1936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AutoShape 15"/>
          <p:cNvSpPr/>
          <p:nvPr/>
        </p:nvSpPr>
        <p:spPr>
          <a:xfrm>
            <a:off x="4648320" y="1447920"/>
            <a:ext cx="228600" cy="2286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utoShape 16"/>
          <p:cNvSpPr/>
          <p:nvPr/>
        </p:nvSpPr>
        <p:spPr>
          <a:xfrm>
            <a:off x="4724280" y="4191120"/>
            <a:ext cx="190800" cy="234720"/>
          </a:xfrm>
          <a:prstGeom prst="downArrow">
            <a:avLst>
              <a:gd name="adj1" fmla="val 50000"/>
              <a:gd name="adj2" fmla="val 4987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AutoShape 17"/>
          <p:cNvSpPr/>
          <p:nvPr/>
        </p:nvSpPr>
        <p:spPr>
          <a:xfrm rot="3421800">
            <a:off x="2794320" y="1551600"/>
            <a:ext cx="255600" cy="422280"/>
          </a:xfrm>
          <a:prstGeom prst="downArrow">
            <a:avLst>
              <a:gd name="adj1" fmla="val 50000"/>
              <a:gd name="adj2" fmla="val 41303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AutoShape 18"/>
          <p:cNvSpPr/>
          <p:nvPr/>
        </p:nvSpPr>
        <p:spPr>
          <a:xfrm rot="18481800">
            <a:off x="6337080" y="1552320"/>
            <a:ext cx="255600" cy="420840"/>
          </a:xfrm>
          <a:prstGeom prst="downArrow">
            <a:avLst>
              <a:gd name="adj1" fmla="val 50000"/>
              <a:gd name="adj2" fmla="val 4116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AutoShape 19"/>
          <p:cNvSpPr/>
          <p:nvPr/>
        </p:nvSpPr>
        <p:spPr>
          <a:xfrm>
            <a:off x="4722840" y="3581280"/>
            <a:ext cx="154080" cy="152640"/>
          </a:xfrm>
          <a:prstGeom prst="downArrow">
            <a:avLst>
              <a:gd name="adj1" fmla="val 50000"/>
              <a:gd name="adj2" fmla="val 49653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20"/>
          <p:cNvSpPr/>
          <p:nvPr/>
        </p:nvSpPr>
        <p:spPr>
          <a:xfrm>
            <a:off x="1066680" y="4191120"/>
            <a:ext cx="214560" cy="234720"/>
          </a:xfrm>
          <a:prstGeom prst="downArrow">
            <a:avLst>
              <a:gd name="adj1" fmla="val 50000"/>
              <a:gd name="adj2" fmla="val 49891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AutoShape 21"/>
          <p:cNvSpPr/>
          <p:nvPr/>
        </p:nvSpPr>
        <p:spPr>
          <a:xfrm>
            <a:off x="7772400" y="4191120"/>
            <a:ext cx="190440" cy="234720"/>
          </a:xfrm>
          <a:prstGeom prst="downArrow">
            <a:avLst>
              <a:gd name="adj1" fmla="val 50000"/>
              <a:gd name="adj2" fmla="val 49968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utoShape 22"/>
          <p:cNvSpPr/>
          <p:nvPr/>
        </p:nvSpPr>
        <p:spPr>
          <a:xfrm>
            <a:off x="3048120" y="4267080"/>
            <a:ext cx="190440" cy="1067040"/>
          </a:xfrm>
          <a:prstGeom prst="downArrow">
            <a:avLst>
              <a:gd name="adj1" fmla="val 50000"/>
              <a:gd name="adj2" fmla="val 25013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AutoShape 23"/>
          <p:cNvSpPr/>
          <p:nvPr/>
        </p:nvSpPr>
        <p:spPr>
          <a:xfrm>
            <a:off x="6400800" y="4267080"/>
            <a:ext cx="190440" cy="1143000"/>
          </a:xfrm>
          <a:prstGeom prst="downArrow">
            <a:avLst>
              <a:gd name="adj1" fmla="val 50000"/>
              <a:gd name="adj2" fmla="val 25007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AutoShape 24"/>
          <p:cNvSpPr/>
          <p:nvPr/>
        </p:nvSpPr>
        <p:spPr>
          <a:xfrm>
            <a:off x="1066680" y="2514600"/>
            <a:ext cx="228600" cy="304920"/>
          </a:xfrm>
          <a:prstGeom prst="upDownArrow">
            <a:avLst>
              <a:gd name="adj1" fmla="val 50000"/>
              <a:gd name="adj2" fmla="val 4001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AutoShape 25"/>
          <p:cNvSpPr/>
          <p:nvPr/>
        </p:nvSpPr>
        <p:spPr>
          <a:xfrm>
            <a:off x="7772400" y="2514600"/>
            <a:ext cx="228600" cy="304920"/>
          </a:xfrm>
          <a:prstGeom prst="upDownArrow">
            <a:avLst>
              <a:gd name="adj1" fmla="val 50000"/>
              <a:gd name="adj2" fmla="val 4001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26"/>
          <p:cNvSpPr/>
          <p:nvPr/>
        </p:nvSpPr>
        <p:spPr>
          <a:xfrm>
            <a:off x="2482920" y="6435720"/>
            <a:ext cx="4800600" cy="343080"/>
          </a:xfrm>
          <a:prstGeom prst="rect">
            <a:avLst/>
          </a:prstGeom>
          <a:solidFill>
            <a:srgbClr val="fac09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esources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ich tex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AutoShape 27"/>
          <p:cNvSpPr/>
          <p:nvPr/>
        </p:nvSpPr>
        <p:spPr>
          <a:xfrm>
            <a:off x="4800600" y="5638680"/>
            <a:ext cx="228600" cy="685800"/>
          </a:xfrm>
          <a:prstGeom prst="downArrow">
            <a:avLst>
              <a:gd name="adj1" fmla="val 50000"/>
              <a:gd name="adj2" fmla="val 7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AutoShape 25"/>
          <p:cNvSpPr/>
          <p:nvPr/>
        </p:nvSpPr>
        <p:spPr>
          <a:xfrm>
            <a:off x="4724280" y="2590920"/>
            <a:ext cx="152640" cy="228600"/>
          </a:xfrm>
          <a:prstGeom prst="upDownArrow">
            <a:avLst>
              <a:gd name="adj1" fmla="val 50000"/>
              <a:gd name="adj2" fmla="val 3993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Box 28"/>
          <p:cNvSpPr/>
          <p:nvPr/>
        </p:nvSpPr>
        <p:spPr>
          <a:xfrm>
            <a:off x="0" y="0"/>
            <a:ext cx="2209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eptu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What do the students need to lear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Why does it mat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What do they already know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What do I want the students to do or produce to demonstrate their  learning and understanding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How will they get ther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How well do I expect them to do i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ffffff"/>
                </a:solidFill>
                <a:latin typeface="Calibri"/>
              </a:rPr>
              <a:t>Quality Assess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14200" y="274320"/>
            <a:ext cx="8501040" cy="1143000"/>
          </a:xfrm>
          <a:prstGeom prst="rect">
            <a:avLst/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Calibri"/>
              </a:rPr>
              <a:t>Programming with DER: Stage 5 English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213840" y="1599840"/>
            <a:ext cx="857268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alibri"/>
              </a:rPr>
              <a:t>NSW English Stage 5 Outcomes: 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1, 4 &amp; 6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alibri"/>
              </a:rPr>
              <a:t>Naplan Data: 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Audience and structure noted as a concern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alibri"/>
              </a:rPr>
              <a:t>HSC Feedback: 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Boys struggling with Paper Section II - Writing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alibri"/>
              </a:rPr>
              <a:t>Concept: Craft: 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The qualities of an effective narrative – “Stories are the lifeblood of a nation” (Garth Boomer)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300" spc="-1" strike="noStrike">
                <a:solidFill>
                  <a:srgbClr val="000000"/>
                </a:solidFill>
                <a:latin typeface="Calibri"/>
              </a:rPr>
              <a:t>Key Question: </a:t>
            </a:r>
            <a:r>
              <a:rPr b="0" lang="en-AU" sz="2300" spc="-1" strike="noStrike">
                <a:solidFill>
                  <a:srgbClr val="000000"/>
                </a:solidFill>
                <a:latin typeface="Calibri"/>
              </a:rPr>
              <a:t>How do we craft a narrative that is engaging and affective?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300" spc="-1" strike="noStrike">
                <a:solidFill>
                  <a:srgbClr val="000000"/>
                </a:solidFill>
                <a:latin typeface="Calibri"/>
              </a:rPr>
              <a:t>Key Ideas: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300" spc="-1" strike="noStrike">
                <a:solidFill>
                  <a:srgbClr val="000000"/>
                </a:solidFill>
                <a:latin typeface="Calibri"/>
              </a:rPr>
              <a:t>The power of imagery and figurative devices in writing to engage and move the reader – “Words are like ants...nothing can penetrate into the cracks and gaps of life as thoroughly or as fast as words can” (Orhan Pamuk)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300" spc="-1" strike="noStrike">
                <a:solidFill>
                  <a:srgbClr val="000000"/>
                </a:solidFill>
                <a:latin typeface="Calibri"/>
              </a:rPr>
              <a:t>How the structure of a narrative can enhance the quality of a narrative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300" spc="-1" strike="noStrike">
                <a:solidFill>
                  <a:srgbClr val="000000"/>
                </a:solidFill>
                <a:latin typeface="Calibri"/>
              </a:rPr>
              <a:t>The importance of close editing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14200" y="228240"/>
            <a:ext cx="8501040" cy="1066680"/>
          </a:xfrm>
          <a:prstGeom prst="rect">
            <a:avLst/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Calibri"/>
              </a:rPr>
              <a:t>Programming with DER: Stage 5 English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214200" y="1447560"/>
            <a:ext cx="862488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Calibri"/>
              </a:rPr>
              <a:t>Lesson delivery: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All notes, hyperlinks and sample digital narratives in </a:t>
            </a:r>
            <a:r>
              <a:rPr b="0" i="1" lang="en-US" sz="2900" spc="-1" strike="noStrike">
                <a:solidFill>
                  <a:srgbClr val="000000"/>
                </a:solidFill>
                <a:latin typeface="Calibri"/>
              </a:rPr>
              <a:t>One Note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Narrative typed in word and all editing done through spell check, synonym check (right click on the word)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Drafts uploaded to class wiki or blog for peer comments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tudents access online module on how to use Premier, Word or Power Point to make digital narratives  (can be already loaded to </a:t>
            </a:r>
            <a:r>
              <a:rPr b="0" i="1" lang="en-US" sz="2900" spc="-1" strike="noStrike">
                <a:solidFill>
                  <a:srgbClr val="000000"/>
                </a:solidFill>
                <a:latin typeface="Calibri"/>
              </a:rPr>
              <a:t>One Note </a:t>
            </a: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rom TaLe)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001000" cy="944640"/>
          </a:xfrm>
          <a:prstGeom prst="rect">
            <a:avLst/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alibri"/>
              </a:rPr>
              <a:t>Writing and ICT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6840" y="137160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3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i="1" lang="en-US" sz="3400" spc="-1" strike="noStrike">
                <a:solidFill>
                  <a:srgbClr val="000000"/>
                </a:solidFill>
                <a:latin typeface="Calibri"/>
              </a:rPr>
              <a:t>Stories now are open-ended, branching, hyperlinked, cross-media, participatory, exploratory, and unpredictable. And they are told in new ways: Web 2.0 storytelling picks up these new types of stories and runs with them, accelerating the pace of creation and participation while revealing new directions for narratives to flow”</a:t>
            </a:r>
            <a:r>
              <a:rPr b="1" lang="en-US" sz="3400" spc="-1" strike="noStrike">
                <a:solidFill>
                  <a:srgbClr val="000000"/>
                </a:solidFill>
                <a:latin typeface="Calibri"/>
              </a:rPr>
              <a:t> (BRYAN ALEXANDER AND ALAN LEVINE)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304560" y="13716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Goal 1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ustralian schooling promotes equity and excellence: promote personalised learning that aims to fulfill the diverse capabilities of each young Australia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Goal 2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l young Australians becom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ccessful learn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fident and creative individua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ctive and informed citize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gradFill rotWithShape="0">
            <a:gsLst>
              <a:gs pos="0">
                <a:srgbClr val="976e4d"/>
              </a:gs>
              <a:gs pos="100000">
                <a:srgbClr val="ffbf88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2f2f2"/>
                </a:solidFill>
                <a:latin typeface="Calibri"/>
              </a:rPr>
              <a:t>National Curriculum Goal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2" name="Picture 4" descr="kids.png"/>
          <p:cNvPicPr/>
          <p:nvPr/>
        </p:nvPicPr>
        <p:blipFill>
          <a:blip r:embed="rId1"/>
          <a:stretch/>
        </p:blipFill>
        <p:spPr>
          <a:xfrm>
            <a:off x="20520" y="5486400"/>
            <a:ext cx="912348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2280" y="142920"/>
            <a:ext cx="3733920" cy="928800"/>
          </a:xfrm>
          <a:prstGeom prst="rect">
            <a:avLst/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eeece1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Digital Tex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37339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digital timeli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life-sto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 podca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ultiple ending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ternative perspectiv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oundscap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digital po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news repor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travel tale: Google Eart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6" name="Picture 4" descr="suitcase-girl_7529636_250%20image_tcm2-12431"/>
          <p:cNvPicPr/>
          <p:nvPr/>
        </p:nvPicPr>
        <p:blipFill>
          <a:blip r:embed="rId1"/>
          <a:stretch/>
        </p:blipFill>
        <p:spPr>
          <a:xfrm>
            <a:off x="4051440" y="0"/>
            <a:ext cx="5092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28600" y="274680"/>
            <a:ext cx="4114800" cy="868320"/>
          </a:xfrm>
          <a:prstGeom prst="rect">
            <a:avLst/>
          </a:prstGeom>
          <a:gradFill rotWithShape="0">
            <a:gsLst>
              <a:gs pos="0">
                <a:srgbClr val="96c1c1"/>
              </a:gs>
              <a:gs pos="100000">
                <a:srgbClr val="e1ebeb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ffff"/>
                </a:solidFill>
                <a:latin typeface="Calibri"/>
              </a:rPr>
              <a:t>Digital Storytelling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228600" y="1294920"/>
            <a:ext cx="41148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i="1" lang="en-US" sz="2500" spc="-1" strike="noStrike">
                <a:solidFill>
                  <a:srgbClr val="000000"/>
                </a:solidFill>
                <a:latin typeface="Calibri"/>
              </a:rPr>
              <a:t>Every community has a memory of itself.</a:t>
            </a:r>
            <a:br>
              <a:rPr sz="2500"/>
            </a:br>
            <a:r>
              <a:rPr b="0" i="1" lang="en-US" sz="2500" spc="-1" strike="noStrike">
                <a:solidFill>
                  <a:srgbClr val="000000"/>
                </a:solidFill>
                <a:latin typeface="Calibri"/>
              </a:rPr>
              <a:t>A living memory, an awareness of a collective identity woven of a thousand stories.”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Craft or artistry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Construct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Hybridity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Narrative Voic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Percept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Fact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9" name="Picture 3" descr="2345232195_17a7f58d6c.jpg"/>
          <p:cNvPicPr/>
          <p:nvPr/>
        </p:nvPicPr>
        <p:blipFill>
          <a:blip r:embed="rId1"/>
          <a:stretch/>
        </p:blipFill>
        <p:spPr>
          <a:xfrm>
            <a:off x="4562640" y="0"/>
            <a:ext cx="4581360" cy="6858000"/>
          </a:xfrm>
          <a:prstGeom prst="rect">
            <a:avLst/>
          </a:prstGeom>
          <a:ln w="0">
            <a:noFill/>
          </a:ln>
        </p:spPr>
      </p:pic>
      <p:sp>
        <p:nvSpPr>
          <p:cNvPr id="230" name="TextBox 4"/>
          <p:cNvSpPr/>
          <p:nvPr/>
        </p:nvSpPr>
        <p:spPr>
          <a:xfrm>
            <a:off x="4572000" y="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rratives for the futur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4190760" cy="716040"/>
          </a:xfrm>
          <a:prstGeom prst="rect">
            <a:avLst/>
          </a:prstGeom>
          <a:solidFill>
            <a:srgbClr val="dce6f2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000000"/>
                </a:solidFill>
                <a:latin typeface="Calibri"/>
              </a:rPr>
              <a:t>The Step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228240" y="1218960"/>
            <a:ext cx="42670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7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100" spc="-1" strike="noStrike">
                <a:solidFill>
                  <a:srgbClr val="000000"/>
                </a:solidFill>
                <a:latin typeface="Calibri"/>
              </a:rPr>
              <a:t>Students create a folder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7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100" spc="-1" strike="noStrike">
                <a:solidFill>
                  <a:srgbClr val="000000"/>
                </a:solidFill>
                <a:latin typeface="Calibri"/>
              </a:rPr>
              <a:t>Craft the text – word limit!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7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100" spc="-1" strike="noStrike">
                <a:solidFill>
                  <a:srgbClr val="000000"/>
                </a:solidFill>
                <a:latin typeface="Calibri"/>
              </a:rPr>
              <a:t>Storyboard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7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100" spc="-1" strike="noStrike">
                <a:solidFill>
                  <a:srgbClr val="000000"/>
                </a:solidFill>
                <a:latin typeface="Calibri"/>
              </a:rPr>
              <a:t>Find or shoot the images that enhance the text or film the text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7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100" spc="-1" strike="noStrike">
                <a:solidFill>
                  <a:srgbClr val="000000"/>
                </a:solidFill>
                <a:latin typeface="Calibri"/>
              </a:rPr>
              <a:t>Record reading of text on MP3 or microphone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7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100" spc="-1" strike="noStrike">
                <a:solidFill>
                  <a:srgbClr val="000000"/>
                </a:solidFill>
                <a:latin typeface="Calibri"/>
              </a:rPr>
              <a:t>Download any sounds or music or video clips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7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3" name="Picture 3" descr="610x.jpg"/>
          <p:cNvPicPr/>
          <p:nvPr/>
        </p:nvPicPr>
        <p:blipFill>
          <a:blip r:embed="rId1"/>
          <a:stretch/>
        </p:blipFill>
        <p:spPr>
          <a:xfrm>
            <a:off x="4737240" y="0"/>
            <a:ext cx="4406760" cy="320040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4" descr="born digital.jpg"/>
          <p:cNvPicPr/>
          <p:nvPr/>
        </p:nvPicPr>
        <p:blipFill>
          <a:blip r:embed="rId2"/>
          <a:stretch/>
        </p:blipFill>
        <p:spPr>
          <a:xfrm>
            <a:off x="4775040" y="3200400"/>
            <a:ext cx="436896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4190760" cy="716040"/>
          </a:xfrm>
          <a:prstGeom prst="rect">
            <a:avLst/>
          </a:prstGeom>
          <a:solidFill>
            <a:srgbClr val="dce6f2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000000"/>
                </a:solidFill>
                <a:latin typeface="Calibri"/>
              </a:rPr>
              <a:t>The Step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228240" y="1218960"/>
            <a:ext cx="42670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Calibri"/>
              </a:rPr>
              <a:t>The micro-story: 30 – 50 word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Calibri"/>
              </a:rPr>
              <a:t>Extreme close-up on the word and then the sentence!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Calibri"/>
              </a:rPr>
              <a:t>Focus on imagery and the verb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Calibri"/>
              </a:rPr>
              <a:t>25 letter alphabe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Calibri"/>
              </a:rPr>
              <a:t>Focus on structure: subverting the narrative structur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7" name="Picture 3" descr="610x.jpg"/>
          <p:cNvPicPr/>
          <p:nvPr/>
        </p:nvPicPr>
        <p:blipFill>
          <a:blip r:embed="rId1"/>
          <a:stretch/>
        </p:blipFill>
        <p:spPr>
          <a:xfrm>
            <a:off x="4737240" y="0"/>
            <a:ext cx="4406760" cy="320040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4" descr="born digital.jpg"/>
          <p:cNvPicPr/>
          <p:nvPr/>
        </p:nvPicPr>
        <p:blipFill>
          <a:blip r:embed="rId2"/>
          <a:stretch/>
        </p:blipFill>
        <p:spPr>
          <a:xfrm>
            <a:off x="4775040" y="3200400"/>
            <a:ext cx="436896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3733920" cy="716040"/>
          </a:xfrm>
          <a:prstGeom prst="rect">
            <a:avLst/>
          </a:prstGeom>
          <a:solidFill>
            <a:srgbClr val="ffffb9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000000"/>
                </a:solidFill>
                <a:latin typeface="Calibri"/>
              </a:rPr>
              <a:t>The Step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228600" y="1143000"/>
            <a:ext cx="37339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300" spc="-1" strike="noStrike">
                <a:solidFill>
                  <a:srgbClr val="000000"/>
                </a:solidFill>
                <a:latin typeface="Calibri"/>
              </a:rPr>
              <a:t>Students use a storyboard to plan story, transitions and effects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celtx.com/</a:t>
            </a: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: easy to use free software that has outstanding storyboard models and scaffolds for students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cartoon computer.bmp"/>
          <p:cNvPicPr/>
          <p:nvPr/>
        </p:nvPicPr>
        <p:blipFill>
          <a:blip r:embed="rId2"/>
          <a:stretch/>
        </p:blipFill>
        <p:spPr>
          <a:xfrm>
            <a:off x="4114800" y="0"/>
            <a:ext cx="5029200" cy="363204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4" descr="cartoon102.jpg"/>
          <p:cNvPicPr/>
          <p:nvPr/>
        </p:nvPicPr>
        <p:blipFill>
          <a:blip r:embed="rId3"/>
          <a:stretch/>
        </p:blipFill>
        <p:spPr>
          <a:xfrm>
            <a:off x="4121280" y="3657600"/>
            <a:ext cx="502272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001000" cy="1020600"/>
          </a:xfrm>
          <a:prstGeom prst="rect">
            <a:avLst/>
          </a:prstGeom>
          <a:gradFill rotWithShape="0">
            <a:gsLst>
              <a:gs pos="0">
                <a:srgbClr val="b0cffb"/>
              </a:gs>
              <a:gs pos="100000">
                <a:srgbClr val="e6effd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Si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144792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bbc.co.uk/wales/audiovideo/sites/about/pages/howto.shtm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www.digi-tales.org/</a:t>
            </a:r>
            <a:r>
              <a:rPr b="0" lang="pt-BR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http://www.photobus.co.uk/index.php?id=2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http://www.changinglives.com.au/2008/04/abrar-autumn-and-i.html</a:t>
            </a:r>
            <a:r>
              <a:rPr b="0" lang="pt-BR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Calibri"/>
              </a:rPr>
              <a:t>http://www.dipity.com/ - Digital timelin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TextBox 4"/>
          <p:cNvSpPr/>
          <p:nvPr/>
        </p:nvSpPr>
        <p:spPr>
          <a:xfrm>
            <a:off x="1676520" y="1752480"/>
            <a:ext cx="5638680" cy="43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000000"/>
                </a:solidFill>
                <a:latin typeface="Calibri"/>
              </a:rPr>
              <a:t>NAPLAN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000000"/>
                </a:solidFill>
                <a:latin typeface="Calibri"/>
              </a:rPr>
              <a:t>&amp; 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000000"/>
                </a:solidFill>
                <a:latin typeface="Calibri"/>
              </a:rPr>
              <a:t>the Digital Narrative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4" descr="http://www.naplan.edu.au/verve/_resources/NAPLAN_banner5_07.gif"/>
          <p:cNvPicPr/>
          <p:nvPr/>
        </p:nvPicPr>
        <p:blipFill>
          <a:blip r:embed="rId1"/>
          <a:stretch/>
        </p:blipFill>
        <p:spPr>
          <a:xfrm>
            <a:off x="0" y="0"/>
            <a:ext cx="9144000" cy="108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228600" y="1219320"/>
            <a:ext cx="44956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Ten criteria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udience: 0-6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ext structure: 0-4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deas: 0-5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haracter &amp; setting: 0-4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Vocabulary: 0-5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ohesion: 0-4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aragraphing: 0-2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ntence structure: 0-6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unctuation: 0-5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pelling: 0- 6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8" name="Picture 5" descr="Naplan_Story.jpg"/>
          <p:cNvPicPr/>
          <p:nvPr/>
        </p:nvPicPr>
        <p:blipFill>
          <a:blip r:embed="rId1"/>
          <a:stretch/>
        </p:blipFill>
        <p:spPr>
          <a:xfrm>
            <a:off x="4876920" y="1039680"/>
            <a:ext cx="4267080" cy="581832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4" descr="http://www.naplan.edu.au/verve/_resources/NAPLAN_banner5_07.gif"/>
          <p:cNvPicPr/>
          <p:nvPr/>
        </p:nvPicPr>
        <p:blipFill>
          <a:blip r:embed="rId2"/>
          <a:stretch/>
        </p:blipFill>
        <p:spPr>
          <a:xfrm>
            <a:off x="0" y="0"/>
            <a:ext cx="9144000" cy="108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3581280" cy="944640"/>
          </a:xfrm>
          <a:prstGeom prst="rect">
            <a:avLst/>
          </a:prstGeom>
          <a:solidFill>
            <a:srgbClr val="d7e4bd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udi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228600" y="1447560"/>
            <a:ext cx="3657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ient, engage and affect the read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m and conven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phistication: A twist, irony, subversion through the unexpec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2" name="Picture 3" descr="001359_20.jpg"/>
          <p:cNvPicPr/>
          <p:nvPr/>
        </p:nvPicPr>
        <p:blipFill>
          <a:blip r:embed="rId1"/>
          <a:stretch/>
        </p:blipFill>
        <p:spPr>
          <a:xfrm>
            <a:off x="4038480" y="0"/>
            <a:ext cx="5105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alibri"/>
              </a:rPr>
              <a:t>Digital Storytelling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signed for a specific purpose and audi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sign process with its planning, storyboarding and selecting images and sound continually forces students to consider the quality and impact of the digital narra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lecting images and sound focuses students on the genre and for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er marking encourages a focus on audi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" name="Title 1"/>
          <p:cNvGrpSpPr/>
          <p:nvPr/>
        </p:nvGrpSpPr>
        <p:grpSpPr>
          <a:xfrm>
            <a:off x="291960" y="219240"/>
            <a:ext cx="3835440" cy="963360"/>
            <a:chOff x="291960" y="219240"/>
            <a:chExt cx="3835440" cy="963360"/>
          </a:xfrm>
        </p:grpSpPr>
        <p:pic>
          <p:nvPicPr>
            <p:cNvPr id="144" name="Title 1" descr=""/>
            <p:cNvPicPr/>
            <p:nvPr/>
          </p:nvPicPr>
          <p:blipFill>
            <a:blip r:embed="rId1"/>
            <a:stretch/>
          </p:blipFill>
          <p:spPr>
            <a:xfrm>
              <a:off x="291960" y="219240"/>
              <a:ext cx="3835440" cy="96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304920" y="228600"/>
              <a:ext cx="3809880" cy="94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Calibri"/>
                </a:rPr>
                <a:t>Considerations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"/>
          <p:cNvSpPr txBox="1"/>
          <p:nvPr/>
        </p:nvSpPr>
        <p:spPr>
          <a:xfrm>
            <a:off x="304560" y="1294920"/>
            <a:ext cx="38098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171000" indent="-171000">
              <a:lnSpc>
                <a:spcPct val="95000"/>
              </a:lnSpc>
              <a:spcBef>
                <a:spcPts val="1939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Global skills required 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171000" indent="-171000">
              <a:lnSpc>
                <a:spcPct val="95000"/>
              </a:lnSpc>
              <a:spcBef>
                <a:spcPts val="774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for the 21</a:t>
            </a:r>
            <a:r>
              <a:rPr b="0" lang="en-US" sz="3100" spc="-1" strike="noStrike" baseline="30000">
                <a:solidFill>
                  <a:srgbClr val="000000"/>
                </a:solidFill>
                <a:latin typeface="Calibri"/>
              </a:rPr>
              <a:t>st</a:t>
            </a: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 century workforce: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171000" indent="-171000">
              <a:lnSpc>
                <a:spcPct val="90000"/>
              </a:lnSpc>
              <a:spcBef>
                <a:spcPts val="1162"/>
              </a:spcBef>
              <a:buClr>
                <a:srgbClr val="000000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Critical thinking 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171000" indent="-171000">
              <a:lnSpc>
                <a:spcPct val="90000"/>
              </a:lnSpc>
              <a:spcBef>
                <a:spcPts val="1162"/>
              </a:spcBef>
              <a:buClr>
                <a:srgbClr val="000000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Problem solving 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171000" indent="-171000">
              <a:lnSpc>
                <a:spcPct val="90000"/>
              </a:lnSpc>
              <a:spcBef>
                <a:spcPts val="1162"/>
              </a:spcBef>
              <a:buClr>
                <a:srgbClr val="000000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Innovation  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171000" indent="-171000">
              <a:lnSpc>
                <a:spcPct val="90000"/>
              </a:lnSpc>
              <a:spcBef>
                <a:spcPts val="1162"/>
              </a:spcBef>
              <a:buClr>
                <a:srgbClr val="000000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Collaboration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171000" indent="-171000">
              <a:lnSpc>
                <a:spcPct val="90000"/>
              </a:lnSpc>
              <a:spcBef>
                <a:spcPts val="1162"/>
              </a:spcBef>
              <a:buClr>
                <a:srgbClr val="000000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Creativity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171000" indent="-171000">
              <a:lnSpc>
                <a:spcPct val="90000"/>
              </a:lnSpc>
              <a:spcBef>
                <a:spcPts val="1162"/>
              </a:spcBef>
              <a:buClr>
                <a:srgbClr val="000000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Connectivism through technology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7" name="Picture 4" descr="global.jpg"/>
          <p:cNvPicPr/>
          <p:nvPr/>
        </p:nvPicPr>
        <p:blipFill>
          <a:blip r:embed="rId2"/>
          <a:stretch/>
        </p:blipFill>
        <p:spPr>
          <a:xfrm>
            <a:off x="4267080" y="0"/>
            <a:ext cx="4876920" cy="38098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5" descr="Kids.jpg"/>
          <p:cNvPicPr/>
          <p:nvPr/>
        </p:nvPicPr>
        <p:blipFill>
          <a:blip r:embed="rId3"/>
          <a:stretch/>
        </p:blipFill>
        <p:spPr>
          <a:xfrm>
            <a:off x="4243320" y="3809880"/>
            <a:ext cx="4900680" cy="3048120"/>
          </a:xfrm>
          <a:prstGeom prst="rect">
            <a:avLst/>
          </a:prstGeom>
          <a:ln w="0">
            <a:noFill/>
          </a:ln>
        </p:spPr>
      </p:pic>
      <p:sp>
        <p:nvSpPr>
          <p:cNvPr id="149" name="TextBox 5"/>
          <p:cNvSpPr/>
          <p:nvPr/>
        </p:nvSpPr>
        <p:spPr>
          <a:xfrm>
            <a:off x="4343400" y="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Global citize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380520" y="1447560"/>
            <a:ext cx="853452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Using writers to model effective writing. Such as Winto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potlight on aspects of writing: setting &amp; characterisatio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Micro-storie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entence of the week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Asking students to compose a narrative and then change its genre. E.g. Three little pigs, hyperlinked to a western version and then linked to a science fiction versio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Peer and self editing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tory boarding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81880" cy="1020600"/>
          </a:xfrm>
          <a:prstGeom prst="rect">
            <a:avLst/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alibri"/>
              </a:rPr>
              <a:t>Digital Storytelling Activitie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80520" y="274680"/>
            <a:ext cx="3886200" cy="868320"/>
          </a:xfrm>
          <a:prstGeom prst="rect">
            <a:avLst/>
          </a:prstGeom>
          <a:solidFill>
            <a:srgbClr val="fcd1b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tru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304920" y="1371240"/>
            <a:ext cx="4114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Organisation of a narrative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ientation, complication, resolution, cod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ophisticated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lashback, different perspectives, circular, parallel, stream of consciousness, moral, refle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9" name="Picture 4" descr="writing.png"/>
          <p:cNvPicPr/>
          <p:nvPr/>
        </p:nvPicPr>
        <p:blipFill>
          <a:blip r:embed="rId1"/>
          <a:stretch/>
        </p:blipFill>
        <p:spPr>
          <a:xfrm>
            <a:off x="4419720" y="1440"/>
            <a:ext cx="472428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14400" y="380880"/>
            <a:ext cx="7313760" cy="868320"/>
          </a:xfrm>
          <a:prstGeom prst="rect">
            <a:avLst/>
          </a:prstGeom>
          <a:solidFill>
            <a:srgbClr val="dce6f2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MaszynaAEG"/>
                <a:ea typeface="MaszynaAEG"/>
              </a:rPr>
              <a:t>The Basic Structur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1" name="Content Placeholder 3" descr=""/>
          <p:cNvPicPr/>
          <p:nvPr/>
        </p:nvPicPr>
        <p:blipFill>
          <a:blip r:embed="rId1"/>
          <a:stretch/>
        </p:blipFill>
        <p:spPr>
          <a:xfrm>
            <a:off x="865080" y="1322280"/>
            <a:ext cx="7413840" cy="5376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Brevity of narrative (300-word max.) and planning process highlights the significance of structure.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8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Choosing images invites students to introduce a leitmotif or theme; especially if this is a component of the assessment task.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8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As it encourages creativity , students are more likely to ‘play’ with the structure.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alibri"/>
              </a:rPr>
              <a:t>Digital Storytelling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ind maps or a planning sheet for a narrativ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omposing the same narrative with different complications and resolutions. In power point or word a hyperlink could be used for each change. (Choose your own adventure)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omposing the same narrative using a range of structures such as circular or two different perspectiv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ssessment task requires students to have a coda or significant message, and an unusual structur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alibri"/>
              </a:rPr>
              <a:t>Digital Storytelling Activitie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560" y="274680"/>
            <a:ext cx="3886200" cy="792000"/>
          </a:xfrm>
          <a:prstGeom prst="rect">
            <a:avLst/>
          </a:prstGeom>
          <a:solidFill>
            <a:srgbClr val="fcd1b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000000"/>
                </a:solidFill>
                <a:latin typeface="Calibri"/>
              </a:rPr>
              <a:t>Ideas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304560" y="1219320"/>
            <a:ext cx="38862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9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Calibri"/>
              </a:rPr>
              <a:t>Creation, selection and crafting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9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Calibri"/>
              </a:rPr>
              <a:t>Sophisticated: </a:t>
            </a:r>
            <a:r>
              <a:rPr b="0" lang="en-US" sz="3800" spc="-1" strike="noStrike">
                <a:solidFill>
                  <a:srgbClr val="000000"/>
                </a:solidFill>
                <a:latin typeface="Calibri"/>
              </a:rPr>
              <a:t>world view,  maturity, extended metaphor, satire, motifs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8" name="Picture 3" descr="grandpa_TVs_web.jpg"/>
          <p:cNvPicPr/>
          <p:nvPr/>
        </p:nvPicPr>
        <p:blipFill>
          <a:blip r:embed="rId1"/>
          <a:stretch/>
        </p:blipFill>
        <p:spPr>
          <a:xfrm>
            <a:off x="4303800" y="0"/>
            <a:ext cx="4840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Stipulated in assessment task that narrative must feature one or two significant ideas and at least one metaphor, motif or simile that reflects the idea/s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8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Mind maps where students suggest a range of topics and class brainstorms the significant ideas that arise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8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Revisit figurative devices and symbolism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alibri"/>
              </a:rPr>
              <a:t>Digital Storytelling &amp; Activitie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3809880" cy="1143000"/>
          </a:xfrm>
          <a:prstGeom prst="rect">
            <a:avLst/>
          </a:prstGeom>
          <a:solidFill>
            <a:srgbClr val="c6d9f1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Character &amp; Settin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228240" y="1600200"/>
            <a:ext cx="3809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rtrayal &amp; development of character; 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velopment of a sense of time &amp; pla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phisticated: atmosphere, authentic dialogue, relationshi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3" name="Picture 4" descr="red-tree-nobody-understands.jpg"/>
          <p:cNvPicPr/>
          <p:nvPr/>
        </p:nvPicPr>
        <p:blipFill>
          <a:blip r:embed="rId1"/>
          <a:stretch/>
        </p:blipFill>
        <p:spPr>
          <a:xfrm>
            <a:off x="4191120" y="0"/>
            <a:ext cx="4952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153280" cy="792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alibri"/>
              </a:rPr>
              <a:t>Characterisatio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Dialogue and vo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Ey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Action or ina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Idiosyncras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Talisma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How they move in their set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Relationshi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Vo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Perspectives and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 txBox="1"/>
          <p:nvPr/>
        </p:nvSpPr>
        <p:spPr>
          <a:xfrm>
            <a:off x="304920" y="1371240"/>
            <a:ext cx="8075520" cy="49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C Moose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CAC Moose"/>
              </a:rPr>
              <a:t>Creating an uncomfortable atmosphe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C Moose"/>
              </a:rPr>
              <a:t> </a:t>
            </a:r>
            <a:r>
              <a:rPr b="0" lang="en-AU" sz="3200" spc="-1" strike="noStrike">
                <a:solidFill>
                  <a:srgbClr val="000000"/>
                </a:solidFill>
                <a:latin typeface="CAC Moose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C Moose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77" name=""/>
          <p:cNvGraphicFramePr/>
          <p:nvPr/>
        </p:nvGraphicFramePr>
        <p:xfrm>
          <a:off x="533520" y="2514600"/>
          <a:ext cx="8076960" cy="4132440"/>
        </p:xfrm>
        <a:graphic>
          <a:graphicData uri="http://schemas.openxmlformats.org/drawingml/2006/table">
            <a:tbl>
              <a:tblPr/>
              <a:tblGrid>
                <a:gridCol w="1616040"/>
                <a:gridCol w="1490400"/>
                <a:gridCol w="1552680"/>
                <a:gridCol w="1554120"/>
                <a:gridCol w="1863720"/>
              </a:tblGrid>
              <a:tr h="472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ekton Pro Bold"/>
                          <a:ea typeface="Tekton Pro Bold"/>
                        </a:rPr>
                        <a:t>Sigh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ekton Pro Bold"/>
                          <a:ea typeface="Tekton Pro Bold"/>
                        </a:rPr>
                        <a:t>Sme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ekton Pro Bold"/>
                          <a:ea typeface="Tekton Pro Bold"/>
                        </a:rPr>
                        <a:t>Tas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ekton Pro Bold"/>
                          <a:ea typeface="Tekton Pro Bold"/>
                        </a:rPr>
                        <a:t>S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ekton Pro Bold"/>
                          <a:ea typeface="Tekton Pro Bold"/>
                        </a:rPr>
                        <a:t>Tou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6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ekton Pro Bold"/>
                          <a:ea typeface="Tekton Pro Bold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ekton Pro Bold"/>
                          <a:ea typeface="Tekton Pro Bold"/>
                        </a:rPr>
                        <a:t>Harsh light/darkne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ekton Pro Bold"/>
                          <a:ea typeface="Tekton Pro Bold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ekton Pro Bold"/>
                          <a:ea typeface="Tekton Pro Bold"/>
                        </a:rPr>
                        <a:t>Sharp edg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ekton Pro Bold"/>
                          <a:ea typeface="Tekton Pro Bold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ekton Pro Bold"/>
                          <a:ea typeface="Tekton Pro Bold"/>
                        </a:rPr>
                        <a:t>Cool  colou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ekton Pro Bold"/>
                          <a:ea typeface="Tekton Pro Bold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ekton Pro Bold"/>
                          <a:ea typeface="Tekton Pro Bold"/>
                        </a:rPr>
                        <a:t>Stainless ste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ekton Pro Bold"/>
                          <a:ea typeface="Tekton Pro Bold"/>
                        </a:rPr>
                        <a:t>Flickering ligh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ekton Pro Bold"/>
                          <a:ea typeface="Tekton Pro Bold"/>
                        </a:rPr>
                        <a:t>Sheets of ra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ekton Pro Bold"/>
                          <a:ea typeface="Tekton Pro Bold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ekton Pro Bold"/>
                          <a:ea typeface="Tekton Pro Bold"/>
                        </a:rPr>
                        <a:t>Sou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ekton Pro Bold"/>
                          <a:ea typeface="Tekton Pro Bold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ekton Pro Bold"/>
                          <a:ea typeface="Tekton Pro Bold"/>
                        </a:rPr>
                        <a:t>Acr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ekton Pro Bold"/>
                          <a:ea typeface="Tekton Pro Bold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ekton Pro Bold"/>
                          <a:ea typeface="Tekton Pro Bold"/>
                        </a:rPr>
                        <a:t>Heavy sc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ekton Pro Bold"/>
                          <a:ea typeface="Tekton Pro Bold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ekton Pro Bold"/>
                          <a:ea typeface="Tekton Pro Bold"/>
                        </a:rPr>
                        <a:t>Vineg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ekton Pro Bold"/>
                          <a:ea typeface="Tekton Pro Bold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ekton Pro Bold"/>
                          <a:ea typeface="Tekton Pro Bold"/>
                        </a:rPr>
                        <a:t>Sickly swe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ekton Pro Bold"/>
                          <a:ea typeface="Tekton Pro Bold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ekton Pro Bold"/>
                          <a:ea typeface="Tekton Pro Bold"/>
                        </a:rPr>
                        <a:t>Discordant mus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ekton Pro Bold"/>
                          <a:ea typeface="Tekton Pro Bold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ekton Pro Bold"/>
                          <a:ea typeface="Tekton Pro Bold"/>
                        </a:rPr>
                        <a:t>High or low pitched s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ekton Pro Bold"/>
                          <a:ea typeface="Tekton Pro Bold"/>
                        </a:rPr>
                        <a:t>Rumbling thund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ekton Pro Bold"/>
                          <a:ea typeface="Tekton Pro Bold"/>
                        </a:rPr>
                        <a:t>Rasping s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ekton Pro Bold"/>
                          <a:ea typeface="Tekton Pro Bold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ekton Pro Bold"/>
                          <a:ea typeface="Tekton Pro Bold"/>
                        </a:rPr>
                        <a:t>Hard textur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ekton Pro Bold"/>
                          <a:ea typeface="Tekton Pro Bold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ekton Pro Bold"/>
                          <a:ea typeface="Tekton Pro Bold"/>
                        </a:rPr>
                        <a:t>Extreme temperatu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ekton Pro Bold"/>
                          <a:ea typeface="Tekton Pro Bold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ekton Pro Bold"/>
                          <a:ea typeface="Tekton Pro Bold"/>
                        </a:rPr>
                        <a:t>Scratchy coarse textur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ekton Pro Bold"/>
                          <a:ea typeface="Tekton Pro Bold"/>
                        </a:rPr>
                        <a:t>Cold steel of a school ben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ekton Pro Bold"/>
                          <a:ea typeface="Tekton Pro Bold"/>
                        </a:rPr>
                        <a:t>Raised goosebump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153280" cy="1143000"/>
          </a:xfrm>
          <a:prstGeom prst="rect">
            <a:avLst/>
          </a:prstGeom>
          <a:solidFill>
            <a:srgbClr val="dce6f2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Setting &amp; the Atmosphere –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The Sens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Title 1"/>
          <p:cNvGrpSpPr/>
          <p:nvPr/>
        </p:nvGrpSpPr>
        <p:grpSpPr>
          <a:xfrm>
            <a:off x="291960" y="219240"/>
            <a:ext cx="3835440" cy="963360"/>
            <a:chOff x="291960" y="219240"/>
            <a:chExt cx="3835440" cy="963360"/>
          </a:xfrm>
        </p:grpSpPr>
        <p:pic>
          <p:nvPicPr>
            <p:cNvPr id="151" name="Title 1" descr=""/>
            <p:cNvPicPr/>
            <p:nvPr/>
          </p:nvPicPr>
          <p:blipFill>
            <a:blip r:embed="rId1"/>
            <a:stretch/>
          </p:blipFill>
          <p:spPr>
            <a:xfrm>
              <a:off x="291960" y="219240"/>
              <a:ext cx="3835440" cy="96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"/>
            <p:cNvSpPr/>
            <p:nvPr/>
          </p:nvSpPr>
          <p:spPr>
            <a:xfrm>
              <a:off x="304920" y="228600"/>
              <a:ext cx="3809880" cy="94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Calibri"/>
                </a:rPr>
                <a:t>Considerations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"/>
          <p:cNvSpPr txBox="1"/>
          <p:nvPr/>
        </p:nvSpPr>
        <p:spPr>
          <a:xfrm>
            <a:off x="304560" y="1294920"/>
            <a:ext cx="38098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171000" indent="-171000">
              <a:lnSpc>
                <a:spcPct val="95000"/>
              </a:lnSpc>
              <a:spcBef>
                <a:spcPts val="1687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Quality learning enables students to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171000" indent="-171000">
              <a:lnSpc>
                <a:spcPct val="95000"/>
              </a:lnSpc>
              <a:spcBef>
                <a:spcPts val="1687"/>
              </a:spcBef>
              <a:buClr>
                <a:srgbClr val="1f497d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Engag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171000" indent="-171000">
              <a:lnSpc>
                <a:spcPct val="95000"/>
              </a:lnSpc>
              <a:spcBef>
                <a:spcPts val="1687"/>
              </a:spcBef>
              <a:buClr>
                <a:srgbClr val="1f497d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Examine and explor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171000" indent="-171000">
              <a:lnSpc>
                <a:spcPct val="95000"/>
              </a:lnSpc>
              <a:spcBef>
                <a:spcPts val="1687"/>
              </a:spcBef>
              <a:buClr>
                <a:srgbClr val="1f497d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Enrich and extend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171000" indent="-171000">
              <a:lnSpc>
                <a:spcPct val="95000"/>
              </a:lnSpc>
              <a:spcBef>
                <a:spcPts val="1687"/>
              </a:spcBef>
              <a:buClr>
                <a:srgbClr val="1f497d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Create and construct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171000" indent="-171000">
              <a:lnSpc>
                <a:spcPct val="95000"/>
              </a:lnSpc>
              <a:spcBef>
                <a:spcPts val="1687"/>
              </a:spcBef>
              <a:buClr>
                <a:srgbClr val="1f497d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Apply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171000" indent="-171000">
              <a:lnSpc>
                <a:spcPct val="95000"/>
              </a:lnSpc>
              <a:spcBef>
                <a:spcPts val="1687"/>
              </a:spcBef>
              <a:buClr>
                <a:srgbClr val="1f497d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Communicate and shar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171000" indent="-171000">
              <a:lnSpc>
                <a:spcPct val="95000"/>
              </a:lnSpc>
              <a:spcBef>
                <a:spcPts val="1687"/>
              </a:spcBef>
              <a:buClr>
                <a:srgbClr val="1f497d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Reflect and evaluat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171000" indent="-171000">
              <a:lnSpc>
                <a:spcPct val="95000"/>
              </a:lnSpc>
              <a:spcBef>
                <a:spcPts val="1687"/>
              </a:spcBef>
              <a:buClr>
                <a:srgbClr val="1f497d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4" name="Picture 4" descr="global.jpg"/>
          <p:cNvPicPr/>
          <p:nvPr/>
        </p:nvPicPr>
        <p:blipFill>
          <a:blip r:embed="rId2"/>
          <a:stretch/>
        </p:blipFill>
        <p:spPr>
          <a:xfrm>
            <a:off x="4267080" y="0"/>
            <a:ext cx="4876920" cy="38098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5" descr="Kids.jpg"/>
          <p:cNvPicPr/>
          <p:nvPr/>
        </p:nvPicPr>
        <p:blipFill>
          <a:blip r:embed="rId3"/>
          <a:stretch/>
        </p:blipFill>
        <p:spPr>
          <a:xfrm>
            <a:off x="4243320" y="3809880"/>
            <a:ext cx="4900680" cy="3048120"/>
          </a:xfrm>
          <a:prstGeom prst="rect">
            <a:avLst/>
          </a:prstGeom>
          <a:ln w="0">
            <a:noFill/>
          </a:ln>
        </p:spPr>
      </p:pic>
      <p:sp>
        <p:nvSpPr>
          <p:cNvPr id="156" name="TextBox 5"/>
          <p:cNvSpPr/>
          <p:nvPr/>
        </p:nvSpPr>
        <p:spPr>
          <a:xfrm>
            <a:off x="4343400" y="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Global citize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Calibri"/>
              </a:rPr>
              <a:t>Atmosphere: </a:t>
            </a: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colour, symbolism and descriptions appropriate to genre and purpose  enhanced by use of graphics and images – focus on the senses!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Calibri"/>
              </a:rPr>
              <a:t>Characterisation: </a:t>
            </a: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tightness of digital narrative forces students to focus on the crafting of the characters’ dialogue and representation 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alibri"/>
              </a:rPr>
              <a:t>Digital Storytelling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Picture 2" descr="http://www.pamalam.co.uk/MUSIC/vocabulary%20abc.jpg"/>
          <p:cNvPicPr/>
          <p:nvPr/>
        </p:nvPicPr>
        <p:blipFill>
          <a:blip r:embed="rId1"/>
          <a:stretch/>
        </p:blipFill>
        <p:spPr>
          <a:xfrm>
            <a:off x="4419720" y="0"/>
            <a:ext cx="4724280" cy="6858000"/>
          </a:xfrm>
          <a:prstGeom prst="rect">
            <a:avLst/>
          </a:prstGeom>
          <a:ln w="0">
            <a:noFill/>
          </a:ln>
        </p:spPr>
      </p:pic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4267080" cy="1143000"/>
          </a:xfrm>
          <a:prstGeom prst="rect">
            <a:avLst/>
          </a:prstGeom>
          <a:solidFill>
            <a:srgbClr val="c6d9f1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Vocabulary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304560" y="1599840"/>
            <a:ext cx="41907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Range &amp; precision of language choi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ophisticated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ffective figurative and sound devices, powerful verbs, adverbs and adjectives, reflects the gen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001000" cy="1143000"/>
          </a:xfrm>
          <a:prstGeom prst="rect">
            <a:avLst/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Punctuation &amp; Spelling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Digital Storytellin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456840" y="1600200"/>
            <a:ext cx="8077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Accuracy and precision: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.g. direct speech and apostrophes used correctl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Sophistication: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.g. ellipsis, difficulty of words, such as: multisyllabic and foreign word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pell and grammar check, synonyms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381880" cy="1143000"/>
          </a:xfrm>
          <a:prstGeom prst="rect">
            <a:avLst/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alibri"/>
              </a:rPr>
              <a:t>Cohesion &amp; Digital Story telling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304560" y="1599840"/>
            <a:ext cx="83818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alibri"/>
              </a:rPr>
              <a:t>Connecting, linking &amp; developing the narrative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8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alibri"/>
              </a:rPr>
              <a:t>Sophisticated</a:t>
            </a: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: effective connectives, continuity of ideas, recurrent motif or theme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8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alibri"/>
              </a:rPr>
              <a:t>Digital Storytelling</a:t>
            </a: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: Focus on topic sentences, connectives and include as part of the assessment task the need for a leitmotif or theme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153280" cy="1020600"/>
          </a:xfrm>
          <a:prstGeom prst="rect">
            <a:avLst/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alibri"/>
              </a:rPr>
              <a:t>Paragraphing &amp; Sentence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457200" y="152352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Paragraphing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Segmenting of narrativ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Sophisticated: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eliberately drives the pace, topic sentences, varying paragraph length such as a single sentence paragraph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Sentence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Sound and meaningful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Sophisticated: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lexical density and variety of beginnings and length, such as: complex, simple, compound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Assessment task must specify that the digital narrative includes figurative and sound devices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Crafting a narrative in 300-words encourages ‘showing’ not ‘telling’ as there is no room for boring details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Thesaurus and using Google word search encourages students to include sophisticated words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Vocabulary clines, word bingo, word meaning checklist   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alibri"/>
              </a:rPr>
              <a:t>Digital Storytelling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Picture 2" descr="signac-feneon.SMALL.jpg"/>
          <p:cNvPicPr/>
          <p:nvPr/>
        </p:nvPicPr>
        <p:blipFill>
          <a:blip r:embed="rId1"/>
          <a:stretch/>
        </p:blipFill>
        <p:spPr>
          <a:xfrm>
            <a:off x="4267080" y="0"/>
            <a:ext cx="4876920" cy="6858000"/>
          </a:xfrm>
          <a:prstGeom prst="rect">
            <a:avLst/>
          </a:prstGeom>
          <a:ln w="0">
            <a:noFill/>
          </a:ln>
        </p:spPr>
      </p:pic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51920" y="274680"/>
            <a:ext cx="4038840" cy="792000"/>
          </a:xfrm>
          <a:prstGeom prst="rect">
            <a:avLst/>
          </a:prstGeom>
          <a:solidFill>
            <a:srgbClr val="fcd5b5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Twitter tex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151920" y="1142640"/>
            <a:ext cx="403884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Novels in 3 Lines: </a:t>
            </a:r>
            <a:r>
              <a:rPr b="0" lang="en-US" sz="2700" spc="-1" strike="noStrike" u="sng">
                <a:solidFill>
                  <a:srgbClr val="000000"/>
                </a:solidFill>
                <a:uFillTx/>
                <a:latin typeface="Calibri"/>
              </a:rPr>
              <a:t>http://twitter.com/novelsin3lines: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nvented by Fénéon, these miniaturized, epigrammatic texts are highly compressed, self-contained storie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Can be created easily using Twitter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Focuses students on crafting tight, evocative sentence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Rectangle 3"/>
          <p:cNvSpPr/>
          <p:nvPr/>
        </p:nvSpPr>
        <p:spPr>
          <a:xfrm>
            <a:off x="4419720" y="3962520"/>
            <a:ext cx="2361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tories applied with tweezers and delineated with a single-hair brush…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4191120" cy="716040"/>
          </a:xfrm>
          <a:prstGeom prst="rect">
            <a:avLst/>
          </a:prstGeom>
          <a:solidFill>
            <a:srgbClr val="558ed5"/>
          </a:solidFill>
          <a:ln w="9360">
            <a:solidFill>
              <a:srgbClr val="1f497d"/>
            </a:solidFill>
            <a:miter/>
          </a:ln>
          <a:effectLst>
            <a:outerShdw dist="107932" dir="18900000" blurRad="0" rotWithShape="0">
              <a:srgbClr val="eeece1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Calibri"/>
              </a:rPr>
              <a:t>Imaginative Engagemen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1148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Google image, picture book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ideo clips from Youtube or films: the trailers of films or a short clip from Australian Screen or Film Australia can be used to stimulate wri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oogle Earth for real settings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8" name="Picture 4" descr="0324_weekendaway"/>
          <p:cNvPicPr/>
          <p:nvPr/>
        </p:nvPicPr>
        <p:blipFill>
          <a:blip r:embed="rId1"/>
          <a:stretch/>
        </p:blipFill>
        <p:spPr>
          <a:xfrm>
            <a:off x="4506840" y="0"/>
            <a:ext cx="4637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228240" y="274680"/>
            <a:ext cx="4343400" cy="944640"/>
          </a:xfrm>
          <a:prstGeom prst="rect">
            <a:avLst/>
          </a:prstGeom>
          <a:solidFill>
            <a:srgbClr val="95b3d7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Calibri"/>
              </a:rPr>
              <a:t>Project-based learning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304560" y="1371240"/>
            <a:ext cx="42670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9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</a:rPr>
              <a:t>The concept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9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</a:rPr>
              <a:t>The question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9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</a:rPr>
              <a:t>The research: locate, evaluate and synthesise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9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</a:rPr>
              <a:t>Probing questions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9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</a:rPr>
              <a:t>The presentation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9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</a:rPr>
              <a:t>Supposition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1" name="Picture 2" descr="http://www.careglobalwarming.com/global-warming.jpg"/>
          <p:cNvPicPr/>
          <p:nvPr/>
        </p:nvPicPr>
        <p:blipFill>
          <a:blip r:embed="rId1"/>
          <a:stretch/>
        </p:blipFill>
        <p:spPr>
          <a:xfrm>
            <a:off x="4694400" y="0"/>
            <a:ext cx="4449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Picture 6" descr="http://www.greenfield.durham.sch.uk/images/shakespeare.gif"/>
          <p:cNvPicPr/>
          <p:nvPr/>
        </p:nvPicPr>
        <p:blipFill>
          <a:blip r:embed="rId1"/>
          <a:stretch/>
        </p:blipFill>
        <p:spPr>
          <a:xfrm>
            <a:off x="4572000" y="2454120"/>
            <a:ext cx="3238560" cy="3341880"/>
          </a:xfrm>
          <a:prstGeom prst="rect">
            <a:avLst/>
          </a:prstGeom>
          <a:ln w="0">
            <a:noFill/>
          </a:ln>
        </p:spPr>
      </p:pic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04560" y="274680"/>
            <a:ext cx="8458200" cy="792000"/>
          </a:xfrm>
          <a:prstGeom prst="rect">
            <a:avLst/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alibri"/>
              </a:rPr>
              <a:t>Project-based learning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304560" y="11430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oncept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on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Question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 people continue to reject Shakespeare’s play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tool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line survey: http://www.zoomerang.com/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ox po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lo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e Product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iki, Ning, Moodle, short film, digital report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28600" y="274680"/>
            <a:ext cx="8686800" cy="868320"/>
          </a:xfrm>
          <a:prstGeom prst="rect">
            <a:avLst/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900" spc="-1" strike="noStrike">
                <a:solidFill>
                  <a:srgbClr val="ffffff"/>
                </a:solidFill>
                <a:latin typeface="Calibri"/>
              </a:rPr>
              <a:t>21</a:t>
            </a:r>
            <a:r>
              <a:rPr b="1" lang="en-AU" sz="3900" spc="-1" strike="noStrike" baseline="30000">
                <a:solidFill>
                  <a:srgbClr val="ffffff"/>
                </a:solidFill>
                <a:latin typeface="Calibri"/>
              </a:rPr>
              <a:t>st</a:t>
            </a:r>
            <a:r>
              <a:rPr b="1" lang="en-AU" sz="3900" spc="-1" strike="noStrike">
                <a:solidFill>
                  <a:srgbClr val="ffffff"/>
                </a:solidFill>
                <a:latin typeface="Calibri"/>
              </a:rPr>
              <a:t> Century Pedagogy - Connectivism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920" y="1219320"/>
            <a:ext cx="853416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000000"/>
                </a:solidFill>
                <a:latin typeface="Calibri"/>
              </a:rPr>
              <a:t>Capacity to know more is more critical than what is currently known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000000"/>
                </a:solidFill>
                <a:latin typeface="Calibri"/>
              </a:rPr>
              <a:t>Ability to see connections between fields, ideas, and concepts is a core skill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000000"/>
                </a:solidFill>
                <a:latin typeface="Calibri"/>
              </a:rPr>
              <a:t>Learning is a process of connecting information sources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000000"/>
                </a:solidFill>
                <a:latin typeface="Calibri"/>
              </a:rPr>
              <a:t>Learning and knowledge rests in diversity of opinions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000000"/>
                </a:solidFill>
                <a:latin typeface="Calibri"/>
              </a:rPr>
              <a:t>Learning may reside in non-human appliances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000000"/>
                </a:solidFill>
                <a:latin typeface="Calibri"/>
              </a:rPr>
              <a:t>Decision-making is itself a learning proces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000000"/>
                </a:solidFill>
                <a:latin typeface="Calibri"/>
              </a:rPr>
              <a:t>Currency (accurate, up-to-date knowledge) is the intent of all connectivist learning activitie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000000"/>
                </a:solidFill>
                <a:latin typeface="Calibri"/>
              </a:rPr>
              <a:t>Choosing what to learn and the meaning of incoming information is seen through the lens of a shifting reality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285480" y="277560"/>
            <a:ext cx="3857400" cy="788760"/>
          </a:xfrm>
          <a:prstGeom prst="rect">
            <a:avLst/>
          </a:prstGeom>
          <a:solidFill>
            <a:srgbClr val="ebd689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Represen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151920" y="1143000"/>
            <a:ext cx="41338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7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Digital representation of a Shakespearian sonnet or a character 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7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Curio box for a character in power point or Photostory accompanied by a recount or personal response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7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 u="sng">
                <a:solidFill>
                  <a:srgbClr val="000000"/>
                </a:solidFill>
                <a:uFillTx/>
                <a:latin typeface="Calibri"/>
              </a:rPr>
              <a:t>http://www.pbs.org/shakespeare/#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7" name="Picture 2" descr="http://www.umass.edu/rso/guild/macbeth.jpg"/>
          <p:cNvPicPr/>
          <p:nvPr/>
        </p:nvPicPr>
        <p:blipFill>
          <a:blip r:embed="rId1"/>
          <a:stretch/>
        </p:blipFill>
        <p:spPr>
          <a:xfrm>
            <a:off x="4373640" y="0"/>
            <a:ext cx="4770360" cy="685800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4" descr="http://brotherb.com/sitebuilder/images/Golden_Crown-760x613.jpg"/>
          <p:cNvPicPr/>
          <p:nvPr/>
        </p:nvPicPr>
        <p:blipFill>
          <a:blip r:embed="rId2"/>
          <a:stretch/>
        </p:blipFill>
        <p:spPr>
          <a:xfrm rot="20289000">
            <a:off x="6784560" y="4617720"/>
            <a:ext cx="2117880" cy="170820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8" descr="See full size image"/>
          <p:cNvPicPr/>
          <p:nvPr/>
        </p:nvPicPr>
        <p:blipFill>
          <a:blip r:embed="rId3"/>
          <a:stretch/>
        </p:blipFill>
        <p:spPr>
          <a:xfrm>
            <a:off x="4572000" y="2714760"/>
            <a:ext cx="1339920" cy="178596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10" descr="http://shakespeare.learnhub.com/lesson/pages/5169-macbeth-act-five-scene-four/photos/13620-medium.jpg"/>
          <p:cNvPicPr/>
          <p:nvPr/>
        </p:nvPicPr>
        <p:blipFill>
          <a:blip r:embed="rId4"/>
          <a:stretch/>
        </p:blipFill>
        <p:spPr>
          <a:xfrm>
            <a:off x="4429080" y="5643720"/>
            <a:ext cx="1257480" cy="83628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9" descr="CB024414.jpg"/>
          <p:cNvPicPr/>
          <p:nvPr/>
        </p:nvPicPr>
        <p:blipFill>
          <a:blip r:embed="rId5"/>
          <a:stretch/>
        </p:blipFill>
        <p:spPr>
          <a:xfrm rot="622800">
            <a:off x="7715160" y="314316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2" name="Title 1"/>
          <p:cNvGrpSpPr/>
          <p:nvPr/>
        </p:nvGrpSpPr>
        <p:grpSpPr>
          <a:xfrm>
            <a:off x="219240" y="262080"/>
            <a:ext cx="4140000" cy="1170000"/>
            <a:chOff x="219240" y="262080"/>
            <a:chExt cx="4140000" cy="1170000"/>
          </a:xfrm>
        </p:grpSpPr>
        <p:pic>
          <p:nvPicPr>
            <p:cNvPr id="313" name="Title 1" descr=""/>
            <p:cNvPicPr/>
            <p:nvPr/>
          </p:nvPicPr>
          <p:blipFill>
            <a:blip r:embed="rId1"/>
            <a:stretch/>
          </p:blipFill>
          <p:spPr>
            <a:xfrm>
              <a:off x="219240" y="262080"/>
              <a:ext cx="414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4" name=""/>
            <p:cNvSpPr/>
            <p:nvPr/>
          </p:nvSpPr>
          <p:spPr>
            <a:xfrm>
              <a:off x="228600" y="274680"/>
              <a:ext cx="41148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ffff"/>
                  </a:solidFill>
                  <a:latin typeface="Calibri"/>
                </a:rPr>
                <a:t>Poetry &amp; ICT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 txBox="1"/>
          <p:nvPr/>
        </p:nvSpPr>
        <p:spPr>
          <a:xfrm>
            <a:off x="304920" y="16002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nd poems created in word - "paw through popular culture like sculptors on trash heaps"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gital poems with imag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dcast poe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6" name="Picture 2" descr="http://www.ebatesville.com/library/poetry.jpg"/>
          <p:cNvPicPr/>
          <p:nvPr/>
        </p:nvPicPr>
        <p:blipFill>
          <a:blip r:embed="rId2"/>
          <a:stretch/>
        </p:blipFill>
        <p:spPr>
          <a:xfrm>
            <a:off x="4495680" y="0"/>
            <a:ext cx="4648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43000" y="152280"/>
            <a:ext cx="4176720" cy="865440"/>
          </a:xfrm>
          <a:prstGeom prst="rect">
            <a:avLst/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800" spc="-1" strike="noStrike">
                <a:solidFill>
                  <a:srgbClr val="ffffff"/>
                </a:solidFill>
                <a:latin typeface="Calibri"/>
              </a:rPr>
              <a:t>Rhetoric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426708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000" spc="-1" strike="noStrike">
                <a:solidFill>
                  <a:srgbClr val="000000"/>
                </a:solidFill>
                <a:latin typeface="Calibri"/>
              </a:rPr>
              <a:t>Youtube: </a:t>
            </a:r>
            <a:r>
              <a:rPr b="0" lang="en-AU" sz="3000" spc="-1" strike="noStrike">
                <a:solidFill>
                  <a:srgbClr val="000000"/>
                </a:solidFill>
                <a:latin typeface="Calibri"/>
              </a:rPr>
              <a:t>Henry V’s Saint Crispin’s Day Speech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&amp; Barack Obama’s victory speech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Podcast: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original soliloqu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Audacity/Garage Band/Adobe Soundbooth: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ritical commentary on a soliloqu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9" name="Picture 10" descr="http://i.dailymail.co.uk/i/pix/2008/10/26/article-1080764-02419940000005DC-221_468x380.jpg"/>
          <p:cNvPicPr/>
          <p:nvPr/>
        </p:nvPicPr>
        <p:blipFill>
          <a:blip r:embed="rId1"/>
          <a:stretch/>
        </p:blipFill>
        <p:spPr>
          <a:xfrm>
            <a:off x="4686480" y="0"/>
            <a:ext cx="4457520" cy="364320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12" descr="http://www1.pictures.gi.zimbio.com/Barack+Obama+Campaigns+Mississippi+Ahead+State+6UBC3SH_P1Ul.jpg"/>
          <p:cNvPicPr/>
          <p:nvPr/>
        </p:nvPicPr>
        <p:blipFill>
          <a:blip r:embed="rId2"/>
          <a:stretch/>
        </p:blipFill>
        <p:spPr>
          <a:xfrm>
            <a:off x="4694400" y="3643200"/>
            <a:ext cx="4449600" cy="32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4572000" cy="865440"/>
          </a:xfrm>
          <a:prstGeom prst="rect">
            <a:avLst/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800" spc="-1" strike="noStrike">
                <a:solidFill>
                  <a:srgbClr val="ffffff"/>
                </a:solidFill>
                <a:latin typeface="Calibri"/>
              </a:rPr>
              <a:t>Creativity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51920" y="1066320"/>
            <a:ext cx="449604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Calibri"/>
              </a:rPr>
              <a:t>Textual intervention: 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Insert comments and track chang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Calibri"/>
              </a:rPr>
              <a:t>Play script: 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http://celtx.com/  or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ttp://www.pbs.org/shakespeare/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Calibri"/>
              </a:rPr>
              <a:t>Computer game: 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Flash animation or Kahootz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Calibri"/>
              </a:rPr>
              <a:t>Flash Tale: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http://www.dreamingmethods.com/archive.html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3" name="Picture 8" descr="essay.png"/>
          <p:cNvPicPr/>
          <p:nvPr/>
        </p:nvPicPr>
        <p:blipFill>
          <a:blip r:embed="rId1"/>
          <a:stretch/>
        </p:blipFill>
        <p:spPr>
          <a:xfrm>
            <a:off x="4724280" y="0"/>
            <a:ext cx="4419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 txBox="1"/>
          <p:nvPr/>
        </p:nvSpPr>
        <p:spPr>
          <a:xfrm>
            <a:off x="3045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Wiki Book Clubs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of the key issues concerning creativity is the ability to explore multiple ideas quickly. A wiki allows a learner to quickly post an idea and let other people comment on i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51920" y="277920"/>
            <a:ext cx="4419720" cy="1139760"/>
          </a:xfrm>
          <a:prstGeom prst="rect">
            <a:avLst/>
          </a:prstGeom>
          <a:solidFill>
            <a:srgbClr val="e6e0ec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900" spc="-1" strike="noStrike">
                <a:solidFill>
                  <a:srgbClr val="000000"/>
                </a:solidFill>
                <a:latin typeface="Calibri"/>
              </a:rPr>
              <a:t>Creativity through Literature - </a:t>
            </a:r>
            <a:r>
              <a:rPr b="1" i="1" lang="en-AU" sz="2900" spc="-1" strike="noStrike">
                <a:solidFill>
                  <a:srgbClr val="000000"/>
                </a:solidFill>
                <a:latin typeface="Calibri"/>
              </a:rPr>
              <a:t>Interpretation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6" name="Picture 4" descr="http://www.wakefield.gov.uk/NR/rdonlyres/EF0F1C1B-4B1A-4ED6-A7E9-F1656C4F60A2/0/Fowler_JaneAustenBookClub.jpg"/>
          <p:cNvPicPr/>
          <p:nvPr/>
        </p:nvPicPr>
        <p:blipFill>
          <a:blip r:embed="rId1"/>
          <a:stretch/>
        </p:blipFill>
        <p:spPr>
          <a:xfrm>
            <a:off x="4705200" y="0"/>
            <a:ext cx="4438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304920" y="277560"/>
            <a:ext cx="4419360" cy="1245960"/>
          </a:xfrm>
          <a:prstGeom prst="rect">
            <a:avLst/>
          </a:prstGeom>
          <a:gradFill rotWithShape="0">
            <a:gsLst>
              <a:gs pos="0">
                <a:srgbClr val="717e8e"/>
              </a:gs>
              <a:gs pos="100000">
                <a:srgbClr val="c3d9f4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Calibri"/>
              </a:rPr>
              <a:t>Creativity through Literature </a:t>
            </a:r>
            <a:br>
              <a:rPr sz="2800"/>
            </a:br>
            <a:r>
              <a:rPr b="1" i="1" lang="en-AU" sz="2800" spc="-1" strike="noStrike">
                <a:solidFill>
                  <a:srgbClr val="000000"/>
                </a:solidFill>
                <a:latin typeface="Calibri"/>
              </a:rPr>
              <a:t>Contextualis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228600" y="1752120"/>
            <a:ext cx="4572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000000"/>
                </a:solidFill>
                <a:latin typeface="Calibri"/>
              </a:rPr>
              <a:t>Google Lit Trip: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Explore novel, play or poetry settings or go on a quest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Add images, commentary and key quote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Create a unique Lit Trip for an original story, play or poem - http://www.googlelittrips.org/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9" name="Picture 5" descr="http://www.bikerwolf.com/098.jpg"/>
          <p:cNvPicPr/>
          <p:nvPr/>
        </p:nvPicPr>
        <p:blipFill>
          <a:blip r:embed="rId1"/>
          <a:stretch/>
        </p:blipFill>
        <p:spPr>
          <a:xfrm>
            <a:off x="4915080" y="0"/>
            <a:ext cx="4228920" cy="6858000"/>
          </a:xfrm>
          <a:prstGeom prst="rect">
            <a:avLst/>
          </a:prstGeom>
          <a:ln w="0">
            <a:noFill/>
          </a:ln>
        </p:spPr>
      </p:pic>
      <p:sp>
        <p:nvSpPr>
          <p:cNvPr id="330" name="TextBox 5"/>
          <p:cNvSpPr/>
          <p:nvPr/>
        </p:nvSpPr>
        <p:spPr>
          <a:xfrm>
            <a:off x="4952880" y="152280"/>
            <a:ext cx="289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itby Abb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Picture 7" descr="http://www.draculas.info/_img/gallery/dracula_book_cover_1902_doubleday_89.jpg"/>
          <p:cNvPicPr/>
          <p:nvPr/>
        </p:nvPicPr>
        <p:blipFill>
          <a:blip r:embed="rId2"/>
          <a:stretch/>
        </p:blipFill>
        <p:spPr>
          <a:xfrm rot="20931600">
            <a:off x="4833720" y="4305240"/>
            <a:ext cx="138564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4560" y="274680"/>
            <a:ext cx="3733560" cy="792000"/>
          </a:xfrm>
          <a:prstGeom prst="rect">
            <a:avLst/>
          </a:prstGeom>
          <a:solidFill>
            <a:srgbClr val="c0504d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Critical Reflec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228240" y="1219320"/>
            <a:ext cx="38862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Invites a deeper understanding of the ideas and content of a subject and promotes greater self-awareness of skills and knowledge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Digital Portfolios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Wikis and Blogs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Podcasts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4" name="Picture 11" descr="mirror-self-reflection-image"/>
          <p:cNvPicPr/>
          <p:nvPr/>
        </p:nvPicPr>
        <p:blipFill>
          <a:blip r:embed="rId1"/>
          <a:stretch/>
        </p:blipFill>
        <p:spPr>
          <a:xfrm>
            <a:off x="4200480" y="0"/>
            <a:ext cx="4943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3" descr="digital.GIF"/>
          <p:cNvPicPr/>
          <p:nvPr/>
        </p:nvPicPr>
        <p:blipFill>
          <a:blip r:embed="rId1"/>
          <a:stretch/>
        </p:blipFill>
        <p:spPr>
          <a:xfrm>
            <a:off x="0" y="3505320"/>
            <a:ext cx="9144000" cy="335268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792000"/>
          </a:xfrm>
          <a:prstGeom prst="rect">
            <a:avLst/>
          </a:prstGeom>
          <a:solidFill>
            <a:srgbClr val="a9d7f7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Why ICT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57200" y="1142640"/>
            <a:ext cx="830592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Calibri"/>
              </a:rPr>
              <a:t>‘</a:t>
            </a:r>
            <a:r>
              <a:rPr b="0" i="1" lang="en-US" sz="2700" spc="-1" strike="noStrike">
                <a:solidFill>
                  <a:srgbClr val="000000"/>
                </a:solidFill>
                <a:latin typeface="Calibri"/>
              </a:rPr>
              <a:t>Today’s digital kids think of information and communications technology (ICT) as something akin to oxygen:  They expect it, it’s what they breathe, and it’s how they live;  They use ICT to meet, play, date, and learn;  It’s an integral part of their social life;   It’s how they acknowledge each other and form their personal identities’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(John Seely-Brown)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alibri"/>
              </a:rPr>
              <a:t>Warning!!!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4920" y="1066320"/>
            <a:ext cx="861048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en-US" sz="3400" spc="-1" strike="noStrike">
                <a:solidFill>
                  <a:srgbClr val="000000"/>
                </a:solidFill>
                <a:latin typeface="Calibri"/>
              </a:rPr>
              <a:t>Students often find it difficult to maintain balance between the design and technology aspects of the creative learning process. Technology can become an obstacle to learning, especially when a student is first exposed to a new and/or novel technology. The student may become too focused on the technology and neglect the need for developing creative ideas…creativity drives technology” (Mohler)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28240" y="274680"/>
            <a:ext cx="8534520" cy="868320"/>
          </a:xfrm>
          <a:prstGeom prst="rect">
            <a:avLst/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alibri"/>
              </a:rPr>
              <a:t>Warning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104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i="1" lang="en-US" sz="4000" spc="-1" strike="noStrike">
                <a:solidFill>
                  <a:srgbClr val="000000"/>
                </a:solidFill>
                <a:latin typeface="Calibri"/>
              </a:rPr>
              <a:t>Technology does not directly change teaching or learning. Rather, the critical element is how technology is incorporated into instruction”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(Bracewell and Faferriere (1996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We can connect with our students by incorporating technology in assessment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458200" cy="716040"/>
          </a:xfrm>
          <a:prstGeom prst="rect">
            <a:avLst/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800" spc="-1" strike="noStrike">
                <a:solidFill>
                  <a:srgbClr val="f2f2f2"/>
                </a:solidFill>
                <a:latin typeface="Calibri"/>
              </a:rPr>
              <a:t>The Research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5486400" cy="548640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Coyle and Colvin’s research concludes that the brain is phenomenally plastic, and that we construct ourselves through behaviour. As Coyle observes, it’s not who you are, it’s what you d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Hattie &amp; Dinham’s research attests to the significance of direct instruction and scaffolding the learn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Creativity is connected to what is already know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Right Arrow 4"/>
          <p:cNvSpPr/>
          <p:nvPr/>
        </p:nvSpPr>
        <p:spPr>
          <a:xfrm>
            <a:off x="5105520" y="3657600"/>
            <a:ext cx="1371600" cy="609480"/>
          </a:xfrm>
          <a:prstGeom prst="rightArrow">
            <a:avLst>
              <a:gd name="adj1" fmla="val 50000"/>
              <a:gd name="adj2" fmla="val 50010"/>
            </a:avLst>
          </a:prstGeom>
          <a:solidFill>
            <a:srgbClr val="c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5"/>
          <p:cNvSpPr/>
          <p:nvPr/>
        </p:nvSpPr>
        <p:spPr>
          <a:xfrm>
            <a:off x="6629400" y="1295280"/>
            <a:ext cx="2209680" cy="4972680"/>
          </a:xfrm>
          <a:prstGeom prst="rect">
            <a:avLst/>
          </a:prstGeom>
          <a:solidFill>
            <a:srgbClr val="e6b9b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Marry Creativity &amp; Innov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Deep knowledge &amp; deep understan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Integrate problematic knowledge and include student dir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Process first then produ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Create the environment for creati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2T00:31:57Z</dcterms:created>
  <dc:creator>Karen Yager</dc:creator>
  <dc:description/>
  <dc:language>en-US</dc:language>
  <cp:lastModifiedBy>Microhire</cp:lastModifiedBy>
  <dcterms:modified xsi:type="dcterms:W3CDTF">2009-07-10T20:20:38Z</dcterms:modified>
  <cp:revision>144</cp:revision>
  <dc:subject/>
  <dc:title>Imaginative Engagement</dc:title>
</cp:coreProperties>
</file>